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7D939-2B63-43B3-861B-C38C9B1B9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05D02-7DBB-418F-B595-B7DDC4F92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07253-2B7D-4EA8-A188-3829BD84D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1B950-EFE1-4A86-9C9B-C730F4CC6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25A0B-4822-4CD4-B52C-4FF1EF670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7C76E-8309-47E2-9816-663A95EB0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74C6E-90BF-436D-84D2-46C138A94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1EC45-2A4A-479C-B34C-1E074ACB6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AAFCD-4B4B-4299-B018-4A4FF2C64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DD9B5-B6E0-46F0-9C71-DE9D4D5E8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579DE-A065-41F9-B7CF-C8354EFE0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A08E3-A3CE-4A49-AD5A-67B59E903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3F3CA-C9C6-4063-8A15-F98F3E64F08E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uturnArrow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-Tur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066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99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124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Strip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899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Notch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lef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hev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rightArrowCallout">
            <a:avLst>
              <a:gd name="adj1" fmla="val 25002"/>
              <a:gd name="adj2" fmla="val 25000"/>
              <a:gd name="adj3" fmla="val 33335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eftArrowCallout">
            <a:avLst>
              <a:gd name="adj1" fmla="val 25002"/>
              <a:gd name="adj2" fmla="val 25000"/>
              <a:gd name="adj3" fmla="val 33335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upArrowCallout">
            <a:avLst>
              <a:gd name="adj1" fmla="val 50007"/>
              <a:gd name="adj2" fmla="val 50003"/>
              <a:gd name="adj3" fmla="val 16667"/>
              <a:gd name="adj4" fmla="val 666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downArrowCallout">
            <a:avLst>
              <a:gd name="adj1" fmla="val 50007"/>
              <a:gd name="adj2" fmla="val 50003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ircular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95280" y="620640"/>
            <a:ext cx="6264360" cy="2952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leftRightArrow">
            <a:avLst>
              <a:gd name="adj1" fmla="val 50000"/>
              <a:gd name="adj2" fmla="val 3981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0:52:08Z</dcterms:created>
  <dc:creator>tb121644</dc:creator>
  <dc:description/>
  <dc:language>en-US</dc:language>
  <cp:lastModifiedBy>tb121644</cp:lastModifiedBy>
  <dcterms:modified xsi:type="dcterms:W3CDTF">2005-05-25T10:52:24Z</dcterms:modified>
  <cp:revision>1</cp:revision>
  <dc:subject/>
  <dc:title>Slide 1</dc:title>
</cp:coreProperties>
</file>