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06056"/>
        <c:axId val="82005843"/>
      </c:barChart>
      <c:catAx>
        <c:axId val="78106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05843"/>
        <c:crosses val="autoZero"/>
        <c:auto val="1"/>
        <c:lblAlgn val="ctr"/>
        <c:lblOffset val="100"/>
        <c:noMultiLvlLbl val="0"/>
      </c:catAx>
      <c:valAx>
        <c:axId val="82005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06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620-D77E-4F04-8273-5EC8C158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B02-BD7A-469C-984B-2E3FA519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1E1-9E8F-4A35-BBA4-1039D71B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8AF-EF47-42C2-BF88-B6655B7E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73B-FA6F-47D9-9B41-29BA091C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F67-1AFB-40C3-8275-67F919F5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D36-FEBE-43BB-829B-A139A9F2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CFA-7D81-412E-9EF0-ADD15918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002-0901-4B5F-9271-EC7E2C48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269-61B4-4D94-A121-95B35CC0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D9C-C9B0-447A-938F-88ADF9D7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CB1-2F1A-4DC7-8AE7-E96AFBB6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FD39C-B629-4BB3-A626-3896993759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