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656695"/>
        <c:axId val="71130930"/>
      </c:barChart>
      <c:catAx>
        <c:axId val="726566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130930"/>
        <c:crosses val="autoZero"/>
        <c:auto val="1"/>
        <c:lblAlgn val="ctr"/>
        <c:lblOffset val="100"/>
        <c:noMultiLvlLbl val="0"/>
      </c:catAx>
      <c:valAx>
        <c:axId val="711309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6566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E8B9-BE0C-4A99-8E07-BBD22469B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1D2B-25C7-4FF7-B64F-243ACE000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129B-9F9A-4ED0-97CF-72481BF04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69AF-D6EC-43F5-B304-3468EB159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0E7E-C841-473B-820D-A8AE0F6F9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DD1C-8639-456D-AFA5-C7C007D92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2EDE-063E-4AF5-BE95-A3FD3CD9F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5DB5-E60E-48D5-976F-ECC686B71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7E1B-4F11-4D4F-99EC-521C28E17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B6DE-447D-45BA-9455-0DA4C867E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3520-06D4-4364-A40C-08A85123C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69A9-3219-4AFF-B791-B36854F89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74A7FC-88C6-4A34-8F2E-26A12C3B037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