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6757114"/>
        <c:axId val="71612838"/>
      </c:barChart>
      <c:catAx>
        <c:axId val="1675711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612838"/>
        <c:crosses val="autoZero"/>
        <c:auto val="1"/>
        <c:lblAlgn val="ctr"/>
        <c:lblOffset val="100"/>
        <c:noMultiLvlLbl val="0"/>
      </c:catAx>
      <c:valAx>
        <c:axId val="7161283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75711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94BE1-7F39-4F38-880B-4C25F19E1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D1E6C-6AD3-46E4-ADDC-FEFB48762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52C9C-8F15-4CF1-A7AE-28C80349C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8F00E-AFFA-49B5-89E3-279742AF9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976D4-01B5-4E6F-90E2-43B0CC7E1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C2DF5-D765-4CCA-A2C8-F51686704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477BE-867B-41D7-BD3E-5F44BBAAE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9641C-5EDA-4060-A834-5D1571BA3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70CCA-40A6-471B-A93C-1D5A583C0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9ED74-1B63-4804-A160-463572E4D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56F70-253A-4488-B921-FAB89CFD7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82B6C-7620-4BB2-BEE4-B7A2A594A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D5443A-BCD6-49C6-85D6-B617FA653FC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