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91194"/>
        <c:axId val="40663873"/>
      </c:barChart>
      <c:catAx>
        <c:axId val="85791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63873"/>
        <c:crosses val="autoZero"/>
        <c:auto val="1"/>
        <c:lblAlgn val="ctr"/>
        <c:lblOffset val="100"/>
        <c:noMultiLvlLbl val="0"/>
      </c:catAx>
      <c:valAx>
        <c:axId val="4066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1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DCE-2BCA-403C-8596-0A793B4A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689-3361-42D9-982E-97843CE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53E-18DB-4CCF-AB9F-E17953C7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3C0-6673-40D5-A336-8014C9F4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067-B713-42C9-A95E-5F2AB3A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688-CD74-49D9-8B5D-AB20D86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72A-103A-4049-ADD7-1BAA8AF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75D-FA1B-4822-B414-9BE1DA26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2A2-96E7-42F2-822B-F0B1951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B54-9C7C-4F68-BE81-C5B3C9CF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6D9-4619-44F3-B222-3C04443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40D-24A6-474E-9FAC-032D87C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7E7CE-1858-427C-B1A3-DE558763B4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