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87698"/>
        <c:axId val="17692252"/>
      </c:barChart>
      <c:catAx>
        <c:axId val="68487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92252"/>
        <c:crosses val="autoZero"/>
        <c:auto val="1"/>
        <c:lblAlgn val="ctr"/>
        <c:lblOffset val="100"/>
        <c:noMultiLvlLbl val="0"/>
      </c:catAx>
      <c:valAx>
        <c:axId val="17692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87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8FE-211C-4EFF-A039-55D02AA1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8DC-3E5B-409B-B885-A589B2CD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274-71C0-40ED-B0F2-29CB9B8C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2A9-0EEA-4C3B-8109-C7BD8C72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F43-FB80-4A2D-A29B-A7B71EE6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C24-1EAB-496B-8994-F42436E2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E6E-79FE-4A64-8DE1-A4771708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C78-DB89-4C2E-94DA-0CC46CB3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CD7-144C-4ED9-8CF9-95A44F6A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A85-958E-4E79-B9F9-D624364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73D-775B-42C8-8C84-659A0AD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DAC-F1EE-4AC6-803D-999C8D7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319DC-A051-4AF8-8520-86374E02DF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