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17700"/>
        <c:axId val="63055848"/>
      </c:barChart>
      <c:catAx>
        <c:axId val="14917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55848"/>
        <c:crosses val="autoZero"/>
        <c:auto val="1"/>
        <c:lblAlgn val="ctr"/>
        <c:lblOffset val="100"/>
        <c:noMultiLvlLbl val="0"/>
      </c:catAx>
      <c:valAx>
        <c:axId val="63055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17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0EB-340A-46A2-956B-65C8D3F4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2EC-7B07-437A-BC31-9CA659B6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116-0659-4C5B-A977-C014776F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8D1-ED79-4DAE-A254-AFBBB40F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DF8-0ED0-4D01-9DEE-09D166E1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A7D-AE10-4A17-99DB-4961C033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441-B7AF-4662-8E66-BBA6AF1F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D36-96D2-4E63-9B26-1F9E87E9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5B3-D332-4DBF-9AC0-A340CB59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7CE-786A-4DE9-B53F-2F85580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5A2-B539-4C12-997F-F25BDFFE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5D6-D307-40DA-8887-E248BE6E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DD9D1-082D-44C4-B5D7-4ABFB35F01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