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8496794"/>
        <c:axId val="68343494"/>
      </c:barChart>
      <c:catAx>
        <c:axId val="784967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343494"/>
        <c:crosses val="autoZero"/>
        <c:auto val="1"/>
        <c:lblAlgn val="ctr"/>
        <c:lblOffset val="100"/>
        <c:noMultiLvlLbl val="0"/>
      </c:catAx>
      <c:valAx>
        <c:axId val="6834349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84967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6DFE-A6EA-4C9F-8416-E91EC33FF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BE45-24CA-4CB9-B39B-79BB30A59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913B9-B753-483D-B7DC-AA97A939A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AFC-2266-426B-B4AA-C350F7263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8C0D4-3FD6-45F7-86A6-5B510133D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CC8-5C03-4DB7-AC42-87F7AD3DF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4B2A-93DF-411E-8A31-C209B6400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CA3F-3121-4F54-B0E4-4E2046B6F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BBA50-294D-4563-8919-9E24EBF5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D2C1C-4483-4D56-BA17-D488DB91C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C83B-6646-40DD-8011-214306FB2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90B7-6143-4459-9498-5FE464CB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BBF7935-26D4-48F5-A4B6-EC530049D08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