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169261"/>
        <c:axId val="60876060"/>
      </c:barChart>
      <c:catAx>
        <c:axId val="17169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76060"/>
        <c:crosses val="autoZero"/>
        <c:auto val="1"/>
        <c:lblAlgn val="ctr"/>
        <c:lblOffset val="100"/>
        <c:noMultiLvlLbl val="0"/>
      </c:catAx>
      <c:valAx>
        <c:axId val="608760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69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759-73BA-40DF-8531-758C2CE2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472-777D-4AAE-8099-CD84221C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102-F2D0-40A9-B58E-CE99661B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A18-ECA3-4760-8276-7C72A337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73D-D893-4D91-AADC-C2F091FB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547D-81FF-4DBC-8CBE-BE308D12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2F1-0F5F-4140-85D0-D6349C41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CC9-D4CB-49FA-8E2B-0DC2FBDB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D63-3046-4AD6-8510-B0D9310F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96EA-AD73-4E0F-B582-BF9BF292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7D9-34ED-4B83-97F6-2CFADBD7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CCC-6945-4600-AABC-A584CF6E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34752-3832-4E92-B7C4-BE235BE66E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