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39776"/>
        <c:axId val="57088212"/>
      </c:barChart>
      <c:catAx>
        <c:axId val="62439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88212"/>
        <c:crosses val="autoZero"/>
        <c:auto val="1"/>
        <c:lblAlgn val="ctr"/>
        <c:lblOffset val="100"/>
        <c:noMultiLvlLbl val="0"/>
      </c:catAx>
      <c:valAx>
        <c:axId val="57088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39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EC0-84C1-4D78-8687-0787D962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735-76C4-4DE2-B5AB-0E8DE46D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E54-93EF-4DA6-832F-02B3FA0C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AD3-ADC0-4FDB-A152-51AAD872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01B-CF7A-4075-AE7C-63995375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8BE-E2F6-4818-AFE8-5424DA56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4A9-396B-4A6C-8349-44A1C475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F73-9F72-40FD-A8FE-8D1BCE42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08C-A7C4-42C9-9904-FE32B7EE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610-0A0D-4B38-BF89-3C52F7C2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961-1751-48D6-950A-FC594A8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74D-6FFB-44EA-B7D3-DBFA4CE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A3ECF-DB9A-4AC1-85C8-9ADE1464AD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