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149589"/>
        <c:axId val="30362456"/>
      </c:barChart>
      <c:catAx>
        <c:axId val="531495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362456"/>
        <c:crosses val="autoZero"/>
        <c:auto val="1"/>
        <c:lblAlgn val="ctr"/>
        <c:lblOffset val="100"/>
        <c:noMultiLvlLbl val="0"/>
      </c:catAx>
      <c:valAx>
        <c:axId val="303624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495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FCD5-2000-4DA8-890B-2D9AFA313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81B7-1E09-4801-99CC-B0E92EF0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559D-C24D-4884-9A01-10E2D68B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748C-87FD-4FB0-BF5D-40B4BE2F3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6C0A-2069-477E-A4C7-35FCF3E6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EA28-1E9B-4AB4-95AD-87AE7E2C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9E02-E38F-407A-A7D1-1B5DE732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8B55-E719-4C58-BA5E-84DD4FC6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F025-6502-4E51-A0F6-FB55597E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F706-0BA1-4E71-927F-0AF1AA20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B725-4A48-4613-B4FB-2FEA9AEA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91F2-3F5C-4C06-94D1-CF6193A6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64E4F-6A55-424D-B7FB-878C7CE588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